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C925-B85F-43DB-907C-38DD88CFF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1BD-0394-4B24-BA7E-68956EC4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6001-61CB-4528-A967-2F3DE7BF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32D6-6F12-43F3-B69F-46EE9FF9C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9D1E9-5B79-445C-8E61-9A81DCDFF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17F5E-F25A-49BE-AB33-A2EDA9888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C01D-C780-4C68-917C-007C06AB6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F0056-6430-4852-B625-0B8F0122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502A-F930-4AB2-9E7B-159C1156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D3A6-D7D1-4D3C-A3BE-10F1B6D8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49EE9-3835-49E4-B974-E16FD212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5077-12C4-4F1E-9B53-D6F2B5E44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BD44-B78A-459F-8E41-4FC483A5F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12266-F6D8-4E12-9C0F-FCE30552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2CE52-99F8-4C0F-95CC-384C14B79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590D7-795E-40FD-8B91-68DF6E408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8284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097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B1C8B-4DD8-4C38-A369-6278C1D01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6A13-E5A7-4F11-9C66-61B530460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CB2A-53CA-4B84-80D6-0CD8870A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962D-0796-4BD1-8AD7-F11D2C6A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8C8C-D121-4BE9-B1E8-59DA1DCD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48FB-82C2-4526-A3A8-62CAB88A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097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4D2-E670-49C9-85C5-8C7ECB873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8284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097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EE3-2BD2-43CC-B785-52E8F638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70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70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798B-69B5-4B58-BC77-7C11674A24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D2B0-0144-4A1E-8CBA-456803C3057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ct"/><Relationship Id="rId3" Type="http://schemas.openxmlformats.org/officeDocument/2006/relationships/image" Target="../media/image4.pct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66"/>
                </a:solidFill>
                <a:latin typeface="Times New Roman"/>
              </a:rPr>
              <a:t>Why Use Excel?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8001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Graph a Spiral or a Few Parabolas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09480" y="2514600"/>
            <a:ext cx="4000680" cy="30607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648320" y="2514600"/>
            <a:ext cx="378432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9246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cc66"/>
                </a:solidFill>
                <a:latin typeface="Times New Roman"/>
              </a:rPr>
              <a:t>Build a scale model of the Great Pyramid… </a:t>
            </a:r>
            <a:endParaRPr b="0" lang="en-US" sz="3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514600" y="2286000"/>
            <a:ext cx="457200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Times New Roman"/>
              </a:rPr>
              <a:t>or find the biggest box you can make from a sheet of cardboard.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523880" y="2438280"/>
            <a:ext cx="5943600" cy="28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Oh, and you can plan the budget for a picnic, too.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143000" y="2362320"/>
            <a:ext cx="697248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13:42:48Z</dcterms:created>
  <dc:creator>CMCSS CMCSS</dc:creator>
  <dc:description/>
  <cp:keywords/>
  <dc:language>en-US</dc:language>
  <cp:lastModifiedBy>CMCSS CMCSS</cp:lastModifiedBy>
  <cp:lastPrinted>1904-01-01T00:00:00Z</cp:lastPrinted>
  <dcterms:modified xsi:type="dcterms:W3CDTF">2010-06-09T14:13:00Z</dcterms:modified>
  <cp:revision>1</cp:revision>
  <dc:subject/>
  <dc:title>Why Use Excel?</dc:title>
</cp:coreProperties>
</file>